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7804-63DA-439E-AC81-D9CD629A0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20F1-E698-4188-B11F-1546103CB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9D8-6B4A-476E-B845-887E25D0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1EC-915E-4439-AD48-CF63801F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A70-1122-4142-B536-D79BD40B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C2B-3958-483E-8DA6-A3B0D23D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C05-9A22-425B-8BB9-BD15E8DB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E6C-B564-4D1C-89D3-FA118B53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394-DD21-4F20-BC1E-C9923DDC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4CB-FC9C-4CBF-82B6-AC6ABFB0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410-E753-40E4-8FCA-F02E3EB4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5DE-09A5-4D11-BECC-6105371E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323-E450-45C1-AD0A-F9D3DD6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899-826F-488C-888E-3F9BCE9D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163-4C03-4B40-99D5-FD5BD01EC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ily Arlant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Emily 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Emily 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Emily 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74320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. Me llamo es Emily. Yo vivo en New York. Yo tengo cuatro años uno hermano. Yo soy aburrido y perezoso. Estoy muy feliz y buena. Yo amo dibujar y videojueg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mi amiga! Tú tienes no deberes. ¿Cómo esta Geraldin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Emily. ¿Qué es el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3809880"/>
            <a:ext cx="37339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! Ella esta muy emocionada pero ella es pequeñ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as tenemos comer. Yo quiero a como ahora. Adiós!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666880" y="5181480"/>
            <a:ext cx="46483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noches. Tú eres estúpido Geraldine, jaja. ¿Cuántos tareas hacemos tenemo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u ceno es no delicioso pero tu ceno es sabroso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44956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o ceno es muy delicioso! Nosotros somos muy bien y estamos cansado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9" descr="fd.png"/>
          <p:cNvPicPr/>
          <p:nvPr/>
        </p:nvPicPr>
        <p:blipFill>
          <a:blip r:embed="rId1"/>
          <a:stretch/>
        </p:blipFill>
        <p:spPr>
          <a:xfrm>
            <a:off x="152280" y="838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4" descr="aqaqaaaaaaaaaaaaaa.png"/>
          <p:cNvPicPr/>
          <p:nvPr/>
        </p:nvPicPr>
        <p:blipFill>
          <a:blip r:embed="rId2"/>
          <a:stretch/>
        </p:blipFill>
        <p:spPr>
          <a:xfrm>
            <a:off x="0" y="5257800"/>
            <a:ext cx="565200" cy="609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67"/>
          <p:cNvSpPr/>
          <p:nvPr/>
        </p:nvSpPr>
        <p:spPr>
          <a:xfrm>
            <a:off x="0" y="586728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1" descr="dwqwd.png"/>
          <p:cNvPicPr/>
          <p:nvPr/>
        </p:nvPicPr>
        <p:blipFill>
          <a:blip r:embed="rId3"/>
          <a:stretch/>
        </p:blipFill>
        <p:spPr>
          <a:xfrm>
            <a:off x="609480" y="5257800"/>
            <a:ext cx="561960" cy="685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73"/>
          <p:cNvSpPr/>
          <p:nvPr/>
        </p:nvSpPr>
        <p:spPr>
          <a:xfrm>
            <a:off x="609480" y="58672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4" descr="dasff.png"/>
          <p:cNvPicPr/>
          <p:nvPr/>
        </p:nvPicPr>
        <p:blipFill>
          <a:blip r:embed="rId4"/>
          <a:stretch/>
        </p:blipFill>
        <p:spPr>
          <a:xfrm>
            <a:off x="1219320" y="5257800"/>
            <a:ext cx="533160" cy="555480"/>
          </a:xfrm>
          <a:prstGeom prst="rect">
            <a:avLst/>
          </a:prstGeom>
          <a:ln w="0">
            <a:noFill/>
          </a:ln>
        </p:spPr>
      </p:pic>
      <p:sp>
        <p:nvSpPr>
          <p:cNvPr id="94" name="TextBox 75"/>
          <p:cNvSpPr/>
          <p:nvPr/>
        </p:nvSpPr>
        <p:spPr>
          <a:xfrm>
            <a:off x="1143000" y="58672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rald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9" descr="fd.png"/>
          <p:cNvPicPr/>
          <p:nvPr/>
        </p:nvPicPr>
        <p:blipFill>
          <a:blip r:embed="rId5"/>
          <a:stretch/>
        </p:blipFill>
        <p:spPr>
          <a:xfrm>
            <a:off x="2209680" y="31240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1" descr="dwqwd.png"/>
          <p:cNvPicPr/>
          <p:nvPr/>
        </p:nvPicPr>
        <p:blipFill>
          <a:blip r:embed="rId6"/>
          <a:stretch/>
        </p:blipFill>
        <p:spPr>
          <a:xfrm>
            <a:off x="2209680" y="2438280"/>
            <a:ext cx="56196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4" descr="dasff.png"/>
          <p:cNvPicPr/>
          <p:nvPr/>
        </p:nvPicPr>
        <p:blipFill>
          <a:blip r:embed="rId7"/>
          <a:stretch/>
        </p:blipFill>
        <p:spPr>
          <a:xfrm>
            <a:off x="2209680" y="4495680"/>
            <a:ext cx="533520" cy="55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dwqwd.png"/>
          <p:cNvPicPr/>
          <p:nvPr/>
        </p:nvPicPr>
        <p:blipFill>
          <a:blip r:embed="rId8"/>
          <a:stretch/>
        </p:blipFill>
        <p:spPr>
          <a:xfrm>
            <a:off x="2209680" y="3733920"/>
            <a:ext cx="5619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aqaqaaaaaaaaaaaaaa.png"/>
          <p:cNvPicPr/>
          <p:nvPr/>
        </p:nvPicPr>
        <p:blipFill>
          <a:blip r:embed="rId9"/>
          <a:stretch/>
        </p:blipFill>
        <p:spPr>
          <a:xfrm>
            <a:off x="2057400" y="5105520"/>
            <a:ext cx="565200" cy="609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94360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. Nosotros tenemos uno tarea. Nuestra tarea es escribir el ensayo.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9" descr="fd.png"/>
          <p:cNvPicPr/>
          <p:nvPr/>
        </p:nvPicPr>
        <p:blipFill>
          <a:blip r:embed="rId10"/>
          <a:stretch/>
        </p:blipFill>
        <p:spPr>
          <a:xfrm>
            <a:off x="2133720" y="58672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3:32Z</dcterms:created>
  <dc:creator>FriscoISD</dc:creator>
  <dc:description/>
  <dc:language>en-US</dc:language>
  <cp:lastModifiedBy>User</cp:lastModifiedBy>
  <dcterms:modified xsi:type="dcterms:W3CDTF">2013-01-02T14:05:10Z</dcterms:modified>
  <cp:revision>115</cp:revision>
  <dc:subject/>
  <dc:title>Profile</dc:title>
</cp:coreProperties>
</file>